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6E0-A987-45BA-82B4-BA7745F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2C0-37CA-41FB-A81D-2744F76C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4C5-FC60-493B-B8EA-B255DC1B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99F-3BB7-4F49-9535-03E42939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FB74-87C8-4224-A700-03393A1D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85D-ED97-49CD-BBA7-663D06E7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2F88-E1B7-4800-9D35-D9559DE6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DFAC-8F0D-4FC6-B1A5-294FFED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9836-B1AF-47B5-81E2-86F7354F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33E7-F75B-4C53-924D-DE8A807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557C-A805-4ED7-AA1B-BBA32A2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314-1AFD-4B11-AE14-48F3DA31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C8F4-2C8E-4585-80BD-A15F64D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232B-66BC-438C-9BF9-79D90044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4B97-AD61-49E8-BB22-C437017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990A-6C67-407B-A49D-EDD76F4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3D48-B024-45B3-A7B3-56FDC22B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1B7-0237-4130-8ADF-6FCC3FB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038-E0C8-4E4E-82B8-CB2F7F0A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4C5-4FAD-4940-AA8A-B4841019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9F3-E255-47C5-BADB-DD66B87A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CD3-7BC0-4D72-A2A6-B891704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C94-5E01-4BD3-B7E7-A8BF472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141-E8CB-4417-B31A-125200F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8EEB-1A52-438B-B671-E44602C60F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5E83-5C32-4CCE-8463-48B7D7CD50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ng fro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ditio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nuo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triol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eed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sign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one sentence using five words. Must make sense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K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h. 23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sw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reewri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entence if the word doesn’t already have one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: It is the last week of the quar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adver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mi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ncommitt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cul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l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0:19:46Z</dcterms:created>
  <dc:creator>rebecca</dc:creator>
  <dc:description/>
  <dc:language>en-US</dc:language>
  <cp:lastModifiedBy>rebecca</cp:lastModifiedBy>
  <dcterms:modified xsi:type="dcterms:W3CDTF">2009-03-06T20:24:56Z</dcterms:modified>
  <cp:revision>1</cp:revision>
  <dc:subject/>
  <dc:title>DOL</dc:title>
</cp:coreProperties>
</file>